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10.wmf" ContentType="image/x-wmf"/>
  <Override PartName="/ppt/media/image11.png" ContentType="image/png"/>
  <Override PartName="/ppt/media/image12.jpeg" ContentType="image/jpeg"/>
  <Override PartName="/ppt/media/image3.wmf" ContentType="image/x-wmf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869-5924-45F7-A0C4-EC521174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FDD-A4E5-457E-AA58-97911BEC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4EB-D68F-4485-9E18-B2EDF89B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2BE-948B-4EF0-8A16-355E1800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401-7A9F-48F1-9BFF-2013B4B2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2D2-9457-4D7E-9C1A-A56341F9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62D-1EF3-4845-A8C1-521E3F35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92E-B9E3-4EB1-9137-D50AD90E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644-A8B4-4CDB-B9D8-A2FF3259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096-8B7E-4409-AE2A-4EA673BB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045-038A-4BEF-B4D2-9D141735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D15-C440-4462-8E72-229BE675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3BE3-5C1A-4CA2-8D6B-4D310ACB5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look a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star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lar.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08800" y="2039760"/>
            <a:ext cx="1888920" cy="186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43760" y="4519440"/>
            <a:ext cx="819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ap some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drinking some 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gul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218268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To tell a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Base word: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Synonyms: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Syllable: story.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54520" y="2076480"/>
            <a:ext cx="1797120" cy="178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97520" y="4114800"/>
            <a:ext cx="1311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with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bor.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24280" y="282888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ted and ner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ex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ea.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18160" y="3043080"/>
            <a:ext cx="18702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45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talk foolish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c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o talk si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chat.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94200" y="2684520"/>
            <a:ext cx="15177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B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: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Li.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29440" y="2030400"/>
            <a:ext cx="1390680" cy="1227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686560" y="4429080"/>
            <a:ext cx="17319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ay thank y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o say 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ra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r.a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59280" y="1981080"/>
            <a:ext cx="257652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i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ay good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Good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Ad.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 rot="365400">
            <a:off x="3733560" y="4266720"/>
            <a:ext cx="50734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8-10-30T17:23:18Z</dcterms:modified>
  <cp:revision>9</cp:revision>
  <dc:subject/>
  <dc:title>PowerPoint Presentation</dc:title>
</cp:coreProperties>
</file>